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C1DE3-2398-43D2-83C7-574D7496F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FE732-A8EE-4241-A1F4-3CF7F57CD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17E30-33D5-433D-B36B-08B9BDEBC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F6799-F886-4B37-ADF1-F013393A7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58605-564E-4B33-B09A-896227D7E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66D4B-7576-41A0-8F26-8C450CAA2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5E2C5-A095-4575-8DB4-3B996DEB3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43788-3AE9-41A2-A184-2E758ED6F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1BBEF-87BA-42C0-9F97-B4C8DD937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9BAA2-5B23-4E85-A68B-871B2108D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47EF9-B008-4B0C-BDBA-9422CC3A9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6314C-72C9-4ADC-92CF-AD78ED143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AC774C-4A82-4A45-951E-2EB2AAA31B7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DDB6B70-C79E-4AEE-86F6-FA23857658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  <a:gridCol w="3048120"/>
              </a:tblGrid>
              <a:tr h="1714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s                               a metal or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nmetal?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s                               a metal or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nmetal?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s                               a metal or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nmetal?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14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s                               a metal or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nmetal?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s                               a metal or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nmetal?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s                               a metal or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nmetal?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4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s                               a metal or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nmetal?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s                               a metal or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nmetal?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s                               a metal or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nmetal?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14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s                               a metal or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nmetal?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s                               a metal or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nmetal?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s                               a metal or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nmetal?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  <a:gridCol w="3048120"/>
              </a:tblGrid>
              <a:tr h="171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at family does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long to?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at family does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long to?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at family does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long to?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1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at family does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long to?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at family does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long to?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at family does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long to?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at family does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long to?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at family does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long to?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at family does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long to?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1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at family does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long to?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at family does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long to?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at family does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long to?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0T00:42:25Z</dcterms:created>
  <dc:creator>Caroline Roth</dc:creator>
  <dc:description/>
  <dc:language>en-US</dc:language>
  <cp:lastModifiedBy>Caroline Roth</cp:lastModifiedBy>
  <cp:lastPrinted>2011-02-10T03:42:45Z</cp:lastPrinted>
  <dcterms:modified xsi:type="dcterms:W3CDTF">2011-03-30T22:24:57Z</dcterms:modified>
  <cp:revision>6</cp:revision>
  <dc:subject/>
  <dc:title>Slide 1</dc:title>
</cp:coreProperties>
</file>